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3EB5-36CF-4FAA-BCAC-514171F6D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A4E5-5C43-4252-8A2C-F4210CB13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BDFB-1301-4A8A-B006-6FDCCFB3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58D-9F22-458C-A668-3F4BA14F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391-5301-4446-96EB-709194F5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449-CACD-48B8-8AAE-871CB232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C19-D0F6-42B6-A65D-968475D5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6A4-5228-401A-8812-9D70D7E8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1F4-CEFA-4FE8-9107-970535E7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270-BE05-4BEC-A6CA-6923DFC0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33F-DBFD-4EEE-AAF0-B91F9378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BB06-8798-44FA-8AD8-1DE183C5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976-D3AE-476C-9971-94245C34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DFF-087C-4EB9-8436-7808F99C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3485-9CB9-42C5-9CFF-8220C7194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848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</a:rPr>
              <a:t>ИСХРАЊЕНОСТИ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652560" y="5181480"/>
            <a:ext cx="4812120" cy="7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ф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ЉА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УЛЕТИЋ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ДИЈАТРИЈСК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ГУЈЕВАЦ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143000" y="1028880"/>
            <a:ext cx="685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АЋЕН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ЕЋАНИМ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УБИТКОМ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УТРИЈЕНАТА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034720" y="2438280"/>
            <a:ext cx="5605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уби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ж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екоти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цз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рматит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уби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ксудатив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нтеропат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варе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уби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убрег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фрот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јабете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литу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нал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булар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емећа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ИНИЧК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ЛИК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ЛНУТРИЦИЈЕ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45200" y="2133720"/>
            <a:ext cx="74444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ДУК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Ш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Ћ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ШТА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С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Б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ДРАЖЉИВОС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ЕТ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П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ТЕИНЕМИЈСК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КУНДАР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УНОДЕФИЦ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ЕН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280" y="5280120"/>
            <a:ext cx="8839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АБОРАТОРИЈСК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ЛАЗ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буми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гб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е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ипид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лектролит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тами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КАЛ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СФАТА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стој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нгитудиналн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т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ЛНУТРИЦИЈЕ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55360" y="2479680"/>
            <a:ext cx="730764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КЛАЊ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ЗРОК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НО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ћ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и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р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и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јтеж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јев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2-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150 –2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рен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х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ецијал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хра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гоми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фар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NOREXIA 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SA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6680" y="1584360"/>
            <a:ext cx="4773960" cy="43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СИХОСОМАТ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ДОЛЕСЦЕН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ЛАД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РАС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Т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Н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УШ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5: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ТПРОСЕЧ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ЕЛИГЕН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Т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ИРОМАШ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50%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ЛЕЧ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ОК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5%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МИ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КЛО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ИЦИД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КВ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ЛЕН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УЛИМ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РВО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ЛОУПОТРЕБ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АКСАТИ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833000" y="990720"/>
            <a:ext cx="42894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ЛИНИЧ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КСТРЕМ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РШАВ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МЕНОРЕ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СТИПА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РАДИКАРД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ИПОТЕНЗ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В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СИХИЈАТРИЈ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ЕМЕЋАЈ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СЕС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СТЕР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КУНДАР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МУНОДЕФ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413600" y="4648320"/>
            <a:ext cx="450144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Ф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ЈАГН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ИПЕРТИРЕО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ДРЕНАЛ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ОН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ОВА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ЕЛИЈАК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СИХ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ндоцраниу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СХРАЊЕ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ОБАЛ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лор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АЗА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ВАШИОРК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ЛЕКТИ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лектрол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кроелемен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81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ТИОПАТОГЕНЕЗА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003400" y="1905120"/>
            <a:ext cx="55162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ЉЕЊ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ЋАЈ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ЈК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лнутриц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ронич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љењ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ет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рдиопулмонал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цијал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пертенз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47680" y="4419720"/>
            <a:ext cx="50349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фарк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цен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в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бла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800960" y="4594320"/>
            <a:ext cx="4155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ЗА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О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раутери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таболичк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емећај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ЛОБАЛН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ЛНУТРИЦИЈА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875960" y="2124000"/>
            <a:ext cx="55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МАР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ДОВОЉ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845720" y="3206880"/>
            <a:ext cx="6022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минант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лор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АЗА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0 %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де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98120" y="4654440"/>
            <a:ext cx="6476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минант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ВАШИОРК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60-80 %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дем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ТИОПАТОГЕНЕЗ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ДОВОЉН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ХРАЊЕНОСТИ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95280" y="3051000"/>
            <a:ext cx="6492960" cy="314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ЕДОВ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ЉАН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С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СОР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ИЈ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ТРИ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Н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ТРЕБ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Њ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ЊЕНИМ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Н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Њ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К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УБИТКО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УТРИЈЕНАТ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447560"/>
            <a:ext cx="42670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ОРЕКСИЈ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ШКОЋ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АЊЕЊ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ВРАЋА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419720" y="990720"/>
            <a:ext cx="43434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ОРЕКСИ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фекц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онич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љењ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у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јена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сихол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к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 проблеми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7280" y="3657600"/>
            <a:ext cx="524844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ШКОЋ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АЊ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Њ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бнорм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љ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њ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ул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р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рали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про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ост но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спне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181840" y="4165560"/>
            <a:ext cx="350316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ВРАЋ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П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сномал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мотив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блем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687040" y="219240"/>
            <a:ext cx="3629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ДОВОЉА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ГЕСТИЈ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ПСОРПЦИЈЕ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422000" y="2076480"/>
            <a:ext cx="6590880" cy="43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ДИГЕСТ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анкреа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јетр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истич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ибр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олестаз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y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ол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са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олова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нз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ир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мар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нутри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кундар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АПСОРП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елијач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лаз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олеран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амбли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арди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индром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одерматити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нтеропат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ЕЋАН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УТРИТИВН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219320" y="2946240"/>
            <a:ext cx="65325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МАТУРУ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А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РЗ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ОРАВ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НУТРИ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амбли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ар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ЗИСТЕН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ЛИ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СТМ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ЕРЕБРАЛ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АРАЛИ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ЛОНГИРА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ЕБРИЛ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ИРЕОТОКСИК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АЋЕН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МАЊЕНИМ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АБОЛИЗМОМ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667880" y="2793960"/>
            <a:ext cx="531360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НГЕНИТАЛ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ОМАЛ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ОНИЧ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ЈЕТР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РЕГ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ИПОТИРЕО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гвожђа  и цин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П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СИХОСОЦИЈАЛ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ПРИВА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08:13:44Z</dcterms:created>
  <dc:creator>No Name</dc:creator>
  <dc:description/>
  <dc:language>en-US</dc:language>
  <cp:lastModifiedBy>Natasa</cp:lastModifiedBy>
  <dcterms:modified xsi:type="dcterms:W3CDTF">2020-09-30T20:08:17Z</dcterms:modified>
  <cp:revision>13</cp:revision>
  <dc:subject/>
  <dc:title>PowerPoint Presentation</dc:title>
</cp:coreProperties>
</file>