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8AE-E99C-4754-BC70-F4C54206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A3B-28CA-45FE-8532-DCB1D945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D9B-F99B-471B-8CC6-CBD32178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320-411B-4BAE-98BF-CB00ECE1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22CDE-D8BD-45C0-9C70-692079C9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C3768-C1FD-4ADA-BAFF-4AA33D62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61655-43C3-4F03-88D5-B9249D09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8101-972C-471E-A118-FD842FB4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3360A-3124-46C3-B040-AB4E1057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C542C-07C2-4553-9AEA-C9D3615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8BB36-7F9A-4192-A154-D14C194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798-B4B1-4BF9-BA80-896ACE2A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5235D-4C4B-4573-A6F3-7F4A75F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0389-6014-4F2D-90E5-9BC3CB6C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C6260-F0BF-46CD-AAF9-05A076D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FE437-5F6B-4E0A-BCEB-5B24EA8E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6943B-4B14-4344-B1CA-87F338A7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6B3-B1ED-44CB-85B1-C9DC7C5D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EB8-EABD-4A1C-955F-25586AE4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D34-AE3C-41C8-99B4-C9E76D40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C97-4418-4226-8D6B-9B28DBD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8E1-4873-458B-8E26-F4B818F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BBA-54EE-4C19-9E76-F08990E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50D-3CB7-476B-96FA-A1FC429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492C-10D6-470F-B0EE-F204A273F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B2AE-EF97-4F9C-B348-C46ED22F6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</a:rPr>
              <a:t>ВИРУСНИ ХЕПАТИТИ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76520" y="1987560"/>
            <a:ext cx="76086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ЛИКИ ЗДРАВСТВЕНИ ПРОБЛЕМ У РАЗВИЈЕН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НЕРАЗВИЈЕНИМ ЗЕМЉА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1560" y="3429000"/>
            <a:ext cx="3969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 ВИ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,Б,Ц,Д,Е и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62120" y="4724280"/>
            <a:ext cx="4995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РПЕС СИМПЛЕ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ПШТАЈН Б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ТОМЕГАЛ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962600" y="2971800"/>
            <a:ext cx="28890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ВАРИЧ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УБЕ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ДЕН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АРВ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85800" cy="1028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5280840" y="1295280"/>
            <a:ext cx="345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ф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р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ЉАНА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УЛЕТИЋ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80160" y="2971800"/>
            <a:ext cx="8069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РОЛОГИЈА  АНТИХАВ ИГМ НА ПОЧЕТКУ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СТАЈУ 4-6 МЕСЕ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ОН ТОГА ИГ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80880" y="4648320"/>
            <a:ext cx="7885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СЕ ЕКСКРЕТУЈЕ СТОЛИЦОМ  2 НЕДЕЉ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ПОЧЕТК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36120" y="2825640"/>
            <a:ext cx="5534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СЕ СКОРО УВЕК КОМПЛЕТ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ПОРАВЕ ОД ХАВ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09680" y="4137120"/>
            <a:ext cx="6363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ТКО СЕ ЈАВЊА ФУЛНИНАНТ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СА ОПАДАЊЕМ СИНТЕТС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УНКЦИЈЕ ЈЕТ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209680"/>
            <a:ext cx="751212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ОБЕ ИНФИЦИРАНЕ СА ХАВ СУ КОНТАГИОЗ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7 ДАНА НАКОН ПОЧЕТКА ЖУТИЦ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РАЈУ СЕ ИЗДВОЈИТИ ИЗ ШК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РТИЋ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КОМ ТОГ ПЕРИОДА ДЕТАЉНО ПРАЊЕ РУ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БОЛНИЦ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ТАКТ СА ОПРЕ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РИКТНО ПРАЊЕ РУ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9856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000"/>
            </a:b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ВАКЦИНА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1800" y="2665440"/>
            <a:ext cx="7488000" cy="274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ДЕЦЕ СТАРИЈЕ ОД 2 ГОДИ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НТРАМУСКУЛАРНО У 2 ДОЗЕ ПОСЛЕ 6 –12 МЕСЕ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 СЕ ДАВАТИ СА ДРУГИМ ВАКЦИН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ВАКЦИН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80880" y="2438280"/>
            <a:ext cx="8534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ЧНЕ ГРУП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СТАРИЈА ОД 2 ГОД У ЕНДЕНСКИМ ПОДРУЧЈ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АЦ СЕ ХРОН БОЛЕСТИ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ЖИВАОЦИ ДРОГЕ. ХОМОСЕКСУАЛЦ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ФЕСИОНАЛНА ИЗЛОЖЕМ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СОБЕ СА ПОРЕМЕЋАЈЕМ  КОАГ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ИМУНОГЛОБУЛИ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42640" y="2362320"/>
            <a:ext cx="859788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ДИКАЦИЈ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ФИЛАКС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ПОСЛЕ ИЗЛАГАЊ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ОВАЊ У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РИЈА ОД 2 ГОД ПРВА ДО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 МЕС ПРЕ ПОЛАС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ЕКСПОЗИ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ДОМАЋИНСТВУ СЕКСУАЛНОМ ПАРТН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ОВ ИНФИЦИРАНИХ МАЈ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ДНИЦИ У ШКОЛАМА ВРТИЋИМА И Д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КОМ ЕПИД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ПИДЕМИЈЕ У БОЛН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81560" y="1676520"/>
            <a:ext cx="269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НК ВИРУС ХБ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68480" y="2438280"/>
            <a:ext cx="6162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РШИНА 2 ЧЕСТИЦ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Б ПОВРШИНСКИ А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bS 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72680" y="3657600"/>
            <a:ext cx="7857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УТРАШЊИ ДЕО ХЕПАТИТИС Б СРЖНИ А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CA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EAg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КОЈИ ЈЕ МАРКЕР ВИРУСНЕ РЕПЛИКА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082520" y="5111640"/>
            <a:ext cx="729324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ПЛИКАЦИЈА У ЈЕТРИ АЛИ И ЛИМФАТИЦ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ЛЕЗИНИ БУБРЕГУ И ПАНКРЕАС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57160" y="2514600"/>
            <a:ext cx="73832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А ПРЕВАЛЕНЦА АФРИКА САХАРА К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ЛИСКИ ИС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300 000 НИВИХ СВАКЕ ГОД У У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55960" y="4114800"/>
            <a:ext cx="609552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 ОД ХР ИНФЕКЦИЈЕ ЈЕ ОБРНУ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ПОРЦИОНАЛАНАН СА УЗРА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10% СВИХ ИНФ СЕ ЈАВЉА КОД ДЕЦ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ТОЈ ГРУПИ 20-30%  ХРОН ИНФЕК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08960" y="3375000"/>
            <a:ext cx="803556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И РИЗИК ПЕРИНАТАЛНА ЕКСПОЗИ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С + МАЈКА  ЈОШ ВЕЋИ АКО ЈЕ ОНА ХБЕ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70-90% ОВЕ ДЕЦЕ БИЋЕ ХРОНИЧАРИ АКО СЕ НЕ ЛЕ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3480" y="2460600"/>
            <a:ext cx="8276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ИНА ДЕЦЕ + МАЈКЕ РАЗВИЈУ АГ- НЕМИ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МЕЂУ 2  И 5 МЕС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А НЕ ПОКАЗУЈУ ЗНАКЕ ДО КАСНЕ ЖИВОТНЕ Д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1800" y="4114800"/>
            <a:ext cx="89924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ДОКАЗА О ПРИСУСТВУ ХБСАГ У МАЈЧИНОМ МЛЕ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ЈЕЊЕ НЕИМУНИЗОВАНЕ ДЕЦЕ ИНФИЦИРАНИХ МАЈ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 ПРЕДСТАВЉА 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17040" y="2362320"/>
            <a:ext cx="5784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А ВИРУС  ЈЕ РНК ВИРУ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АМИЛИЈА ПИКОРНА ВИРУ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61840" y="3892680"/>
            <a:ext cx="49341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КЛАСЕ 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gM HAV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062800" y="5562720"/>
            <a:ext cx="4630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А ЈЕ УВЕК АКУТ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24880" y="2174760"/>
            <a:ext cx="86371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РУГИ ВАЖАН НАЧИ АКТИВАЦИЈЕ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Е Ј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В АПЛИКАЦИЈА ЛЕКОВА ИЛИ КРВ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 40% СЛ НИЈЕ УТВРЂЕН РИЗИЧНИ ФА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32200" y="3733920"/>
            <a:ext cx="88873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В ЈЕ ПРИСУТАН У ВИСОКИМ КОНЦЕНТРАЦИЈАМА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ВИ, СЕРУМУ, СЕРОЗНИМ ТЕЧНОСТИ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МЕРЕНО У ПЉУВАЧКИ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ВАГИНИ И СПЕР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6920" y="5257800"/>
            <a:ext cx="796068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 45 –160 ДА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РЕДЊЕ ОКО 120 Д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</a:t>
            </a: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 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85280" y="2438280"/>
            <a:ext cx="6019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ОДГОВОР ЈЕТРЕ ИСТИ НА С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Е ВИРУ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2520" y="3622680"/>
            <a:ext cx="88538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В РАЗЛИКУЈЕ ОД ДРУГИХ -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ЦИТОПАТОГЕНЕТСК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РЕДНО ПРЕКО ИМУНОГ СИС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ЗБИЉНОСТ ОШТЕЋЕЊА ОДГОВАРА НИВОУ ИМУНОГ ОД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1120" y="337680"/>
            <a:ext cx="7627680" cy="91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АТОГЕНЕЗ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3960" y="1752480"/>
            <a:ext cx="902304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ВИ КОРАК  У АКУТНОМ  ПРОЦЕСУ ЈЕ ИНФ СА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НИ АГ НА ПОВРШИНИ ЋЕ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АЖНИЈИ АГ ЈЕ ХБЦ И ХБЕ А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ДРУЖЕНИ СТВАРА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 ХЕПАТОЦИТА МЕТУ ЗА ЦИТОТОКСИЧНЕ Т ЛИМФОЦ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40120" y="3984480"/>
            <a:ext cx="8651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ХАНИЗАМ РАЗВОЈА ХР ХЕП НЕДОВОЉНО ЈА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 ПОСРЕДОВАНИ МЕЈАНИЗМИ МОГУ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КРИВИТИ 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ТРАХЕПАТИЧНЕ МАНИФЕСТ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1440" y="5410080"/>
            <a:ext cx="8905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ТАЦИЈЕ КОД ХБВ СУ ЧЕШЋЕ НЕГО КОД РУГИХ ДНК В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94320" y="2708280"/>
            <a:ext cx="92026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ЕСТО АСИМПТОМАТ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СОКА СТОПА НОСИОЦА СЕРУМСКИХ МАРК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И НЕМАЈУ У АНАМНЕЗИ ЗНАКЕ  АКУТНОГ ХЕПАТИТИ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21840" y="4232160"/>
            <a:ext cx="76896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СИМПТОМАТСКА ЕПИЗОДА ХБВ СЛИЧНА К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ВЦ И ХВА АЛИ И ОЗБИЉНИЈА СА СИМПТОМ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  КОЖИ И ЗГЛОБОВ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279440" y="5603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990720" y="2068560"/>
            <a:ext cx="6858000" cy="357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ВИ НАЛАЗ РАСТ АЛТ ПРЕ ПОЈАВЕ ЛЕТАРГИЈ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ОРЕКСИЈЕ И СЛАБОСТИ 6-7 НЕДЕЉА НАКОН ИЗЛАГАЊА НАСТАВАК КАО ИМИТАЦИЈА СЕРУМСКЕ БОЛЕСТИ АРТРАЛГИЈА И КОЖНЕ ЛЕЗИЈЕ,УРТИКАРИЈА, ПУРПУРА,МАКУЛО ПУРПУРА АКРОДЕРМАТИТИС, ПОЛИАРТЕРИТИС, АПЛАСТИЧНА АНЕМ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4197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1640" y="4114800"/>
            <a:ext cx="7677360" cy="1557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. НАЛАЗ ИКТЕРИЧНА КОЖА И СЛУЗОКОЖ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ПОД ЈЕЗИ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УВЕЋАНА,БОЛНА НА ПАЛПАЦИЈ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ПЛЕНОМЕГАЛИЈА И ЛИМФАДЕН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04920" y="2819520"/>
            <a:ext cx="8686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УТИЦА ОКО 8 НЕДЕЉА ПОСЛЕ ИЗЛАГА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АЈЕ 4 НЕД.РЕЗОЛУЦИЈА ЗА НЕКИХ 6-8 НЕД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42640" y="2098800"/>
            <a:ext cx="874404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РОЛОШКА Д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С АГ КОД СВИХ +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РАСТ ПРАТИ ПОЈАВУ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Е АГ + ТОКОМ АКУТНЕ ФАЗЕ И УКАЗУЈЕ НА ВРЛО ИНФ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90600" y="3962520"/>
            <a:ext cx="821988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МО АН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SAt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У ПРИСУТНА КОД ОСО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ИЗОВАНЕ ХЕП Б ВАКЦИ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 ОСОБЕ КОЈА ЈЕ ИМАЛА ХЕП АНТИ ХБ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АНТИ ХБЦ 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ОМПЛИКАЦИЈ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55600" y="2882880"/>
            <a:ext cx="65311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ФУЛМИНАНТНИ ОБЛИК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РО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ЦЕЛУЛАРНИ КАРЦ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0880" y="2174760"/>
            <a:ext cx="5973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СТУПНЕ ХЕПАТИТИС Б ВАКЦИН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ХБ 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77960" y="3429000"/>
            <a:ext cx="7113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 НИЈЕ ВАКЦИНИСАН НА РОЂЕЊУ 11 –12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90080" y="4578480"/>
            <a:ext cx="58028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ХБС + МАЈ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АКЦИНА НА РОЂЕЊУ  1-2 М И 6 М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РЕВЕНЦ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47920" y="2736720"/>
            <a:ext cx="817056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Н ХБС НЕГ МАЈКЕ ПРИМА ВАЦ 0-2 МЕС, 1-4 МЕ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6-18 М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ВЕ ТРИ ДОЗЕ СЕ ТРЕБАЈУ ДАТИ ИАКО ЈЕ ИНТЕРВ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МЕЂУ ПРДУЖЕН ИЗ НЕКОГ РАЗ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ЕПИДЕМИОЛОГ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38080" y="3086280"/>
            <a:ext cx="739152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АВЉА СЕ ШИРОМ СВ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УЧЕСТАЛИЈИ У НЕРАЗВИЈЕНИМ ЗЕМЉА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НЕКАД  ПРЕВАЛЕНЦА  100% У ДЕЦЕ ДО 5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72480" y="533520"/>
            <a:ext cx="41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</a:rPr>
              <a:t>ХЕПАТИТИС 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34560" y="1717560"/>
            <a:ext cx="75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АДА НОН А НОН Б ДАНАС ХЕПАТОТИС Ц ИН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80880" y="2631960"/>
            <a:ext cx="8893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НИЈЕ ИЗОЛОВ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ЛОНИРАН ТЕХНИКОМ РЕКОМБИНАНТНЕ ДНК 1988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НК ВИРУС ФЛАВИВИР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А 6 ОСНОВНИХ ГЕНОТИПОВА И БРОЈНЕ ПОДТИП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ЕНЕТСКЕ ВАРИЈАЦИЈЕ ОБЈАШЊАВАЈУ РАЗЛИЧИТЕ КЛ СЛ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2240" y="3340080"/>
            <a:ext cx="921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ЦВ ЈЕ НАЈЧЕШЋИ УЗРОК ХРОНИЧНЕ БОЛЕСТИ ЈЕТ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САД 8-10 000 ЖИВОТА ОДНОСИ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4 МИЛ ЉУДИ УСА ИН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89% ИНФИЦИРАНИХ ОСТАЈЕ ИНФ ЦЕЛИ ЖИВ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АКО НЕДОСТАЈУ БИОХЕМ МАКРЕРИ ЈЕТРИНОГ ОШТЕЂ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52280" y="3886200"/>
            <a:ext cx="1097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79120" y="5410080"/>
            <a:ext cx="514764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 7-9 НЕДЕЉА (2-20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752480"/>
            <a:ext cx="89154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О ФАКТОРИ ИЗМЕЊ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НИЈ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КО Т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ДА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ЛОУПТРЕБА НАРКОТИК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ГАЛА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ШЕ ОД ПОЛОВ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КСУАЛНА ТРАНСМИС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ТВОР 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ФЕС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10% НОВИХ СЛ ТРАНСМИСИЈА СЕ НЕ МОЖЕ ОБЈАСН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ЕРИАНАТЛНА ОПАСНА АЛИ  НИЈЕ ЧЕСТА ОСИМ АКО ЈЕ МАЈКА + 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СОК ТИТАР ХЦ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5640" y="1676520"/>
            <a:ext cx="68968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ШТЕЋЕЊЕ ХЕПАТОЦИТА КАО КОД ДРУГ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Х 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22800" y="2895480"/>
            <a:ext cx="8055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ЈСТВО ЦИТОПАТОГЕНЕТСКО  НЕ ИСКЛЉУЧУЈЕ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ЛОВАЊЕ ПРЕКО ИМУНОГ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46960" y="4343400"/>
            <a:ext cx="84927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ТОПАТОЛОШКИ ЕФЕКАТ ЈЕ БЛАГ С ОБЗИРОМ ДА 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А ИНФ СА ОВИМ ВИРУСОМ НАЈБЛАЖА ОД СВ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Х ВИР ОСИМ ХЦ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2080" y="2057400"/>
            <a:ext cx="890244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Л СЛИКА ИСТА КАО И КОД ДРУГИХ ХЕПАТОТРОПНИХ 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А БОЛЕСТ БЛ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МУКАО ПОЧЕТ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УЛМИНАНТНО ОШТЕЋЕНЈЕ РЕТ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85% ХР ИНФЕКЦИЈА СА ПОРАСТОМ ЕНЗ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25 - 30 ГОД ПРОГРЕДИРА У 25% КА ЦИРОЗ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РЕМЕНО ХЕПАТОЦЕЛУЛАРНИ ЦА РЕЂЕ ОД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НКОГЕН КАПАЦИТЕТ 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14800" y="2438280"/>
            <a:ext cx="75463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ТЕЛА НА ХЦВ АГ НЕ  ПОМАЖУ У ПРОГНО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As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МУНОЕСЕЈ ПОВЕЋАНЕ СЕНЗИ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125360" y="3886200"/>
            <a:ext cx="72565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ОЛЕСТ СЕ ДОКАЗУЈЕ ПОВИШЕНИМ АЛТ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ТВРЂУЈЕ БИОПСИЈОМ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ОН ИНФ  ВИСОК АЛ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ИБРОЗА ЈЕТР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+ХЦВ РНК У КР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51520" y="2133720"/>
            <a:ext cx="800496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ВИ ПОЈЕДИНИЦИ И РИЗИКО ГРУП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КРИНИ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В УЖИВАОЦИ ДР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ИМАОЦИ ФАКТОРА КОАГУЛА ПРЕ 198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 ДИЈАЛИ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 ПЕРЗИСТИРАЈУЋИМ АЛТ ЧАК И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ИМИЛИ ТС ИЛИ ТРАНСПЛ. ПРЕ 199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УТИНСКИ СКРИНИГ НИЈЕ ПРЕПОР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457200" y="5486400"/>
            <a:ext cx="7924680" cy="11912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МАЈКИ +ХЦ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 ХЦВ ПОСЛЕ 12 М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ИА ТЕСТ ЦРП И РАНИЈЕ 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ТЕРАП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79080" y="2708280"/>
            <a:ext cx="821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ТЕРФЕРОН ОДГОВОР КОД 10-15% ПАЦИЈ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ОРМАЛАН  АЛТ И НЕГАТИВАН  ЦР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РЕФЕРОН И РИБАВИРИН КОД 1/3 ТЕРАПИЈА ИЗ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96360" y="2556000"/>
            <a:ext cx="803556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 ОД ФУЛМИНАНТНЕ ФОРМЕ ЈАКО М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И СТЕПЕН РАЗВОЈА ХР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О ФАКТОР ЗА ФИБРОЗУ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РИЈА ДО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И ПОЛ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. УНОС 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РАЈУ БИТИ ИМНУЗОВАНА ХЕП Б И ХЕП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 БОЛЕСТ БЛАГА ЧАК И СА ЦИР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440360" y="3079800"/>
            <a:ext cx="59079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ВАКЦИ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ЗА ХЦ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НИСУ ЕФИКАС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210320" y="650880"/>
            <a:ext cx="5075640" cy="235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ЕНОС ИНФЕКЦИЈ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ИЧНИМ КОНТАК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ЕКО ОРАЛНИМ ПУ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ЕРКУТАНА ТРАНСМИСИЈА РЕТ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НСМИСИЈА МАЈКА - ДЕТЕ НИК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440" y="3394080"/>
            <a:ext cx="7319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А ТОКОМ ТРУДНОЋЕ ИЛИ ПОРОЂА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ЕЗ КОМПЛИК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ПОРАСТА КЛИНИЧКИ ОБОЛЕЛЕ Н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9760" y="5264280"/>
            <a:ext cx="65876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ТИВНОСТ ПЉУВАЧКЕ, УРИНА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ЕРМЕ НИЈЕ ДОКАЗ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830520" y="270000"/>
            <a:ext cx="797292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ИЗ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НТАКТ СА ЗАРАЖЕНОМ ОСОБ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ВРТИЋУ, ДЕЧЈИМ ЦЕНТРИ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КОНТАМИНИ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АНА 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КОНТАМИНИРАНА РИБ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МРЗНУТО ПОВРЋЕ,СИРОВИ ПРОИЗВО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ОВАЊЕ У ЕНДЕМСКА ПОДРУЧ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747800" y="3089160"/>
            <a:ext cx="52542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КСКРЕЦИЈА ВИРУСОМ САМО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КУБАЦИОНОМ ПЕРИ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ИК ПРЕ КРАЈА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. У ЗАДЊОЈ НЕДЕЉИ ЖУТ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9800" y="5264280"/>
            <a:ext cx="621900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РЕДЊ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ОНИ ПЕРИО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ХА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КО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 НЕДЕЉ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ОПСЕГ 15 ДО 50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52280" y="2441520"/>
            <a:ext cx="888840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ПРОЖЕТА НЕКР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АСНА ПРОМЕНА ЈЕТРЕ ЈЕ Р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ЛИФЕРАЦИЈА У ЖУЧНИМ ПУТЕВИМА БЕЗ ОШТЕЋЕ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35760" y="4648320"/>
            <a:ext cx="50878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ГЕНЕРАТИВНЕ ПРОМЕ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 3 МЕС ПОСЛЕ ИНФЕК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МОРФОЛОШКИ УРЕД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ПАТОГЕНЕ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193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054880" y="3048120"/>
            <a:ext cx="4410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АНСАМИНАЗЕ АСТ И АЛ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837440" y="4114800"/>
            <a:ext cx="4489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ОЛЕСТАЗНА ЖУТ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ГТ АЛП БИЛИРУБИН ПТ ПТ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29520" y="5257800"/>
            <a:ext cx="726876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РЕМЕЋАЈ МЕТАБОЛИЗМА УХ  И АМОНИЈ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ЛИНИЧКА СЛИК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57040" y="2797200"/>
            <a:ext cx="652356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ЕБРИЛНОСТ, ГРОЗН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КА, ПОВРАЋАЊЕ, АНОРЕКС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ЈАРЕ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УТИЦА ТАМАН УРИН И БЛЕДА СТО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ОЛ У ДЕСНОМ ГОРЊМ КВАДРАН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99640" y="5340240"/>
            <a:ext cx="3666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ПОРАВАК ЈЕ ПОТПУ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ТЕРАП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617480" y="3232080"/>
            <a:ext cx="6112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 СПЕЦИФИЧНОГ ТРЕТМ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ПОРТИВНА ТЕРАПИЈА РЕХИД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ГИЈЕНСКО - ДИЈЕТЕТСКИ РЕЖ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15:59:58Z</dcterms:created>
  <dc:creator>No Name</dc:creator>
  <dc:description/>
  <dc:language>en-US</dc:language>
  <cp:lastModifiedBy>Natasa</cp:lastModifiedBy>
  <dcterms:modified xsi:type="dcterms:W3CDTF">2020-09-30T20:07:50Z</dcterms:modified>
  <cp:revision>11</cp:revision>
  <dc:subject/>
  <dc:title>ВИРУСНИ ХЕПАТИТИС</dc:title>
</cp:coreProperties>
</file>