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427-D20A-4BAF-A998-0F27F273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A38-F21C-43F6-AC21-184CAB2D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769-2B3A-4986-87DB-2A5D79D4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835-3FB8-4875-AA8C-1C26F554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CE20-26C7-4003-9DB8-302E15CC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41B-D9CE-4449-A956-E61FA281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715-61DE-4650-BAB9-83AAE56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53B-5BD7-4BD5-B093-347A20A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C60C-1C94-4145-840A-E9B01B5C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BB80-1BE9-49B8-A8DA-0B5C8AC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434-1192-4B42-90B5-193CFED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786-C946-4BD9-9DF4-F50EE47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EF5-7241-450A-A7F9-E1FC6B2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44A1-F075-41C9-81E0-7247049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3BB-EF8F-462F-8AB2-43CAB92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73DF-A401-49F2-9577-1E82139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9E3E-DC75-4010-97C9-92EFEC25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13B-B1B1-4C71-A2B5-DB7BD8D7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F1E-5019-4FA0-ADCB-93025596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0A6-BB05-4993-9F04-AFEDA2F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E74-86F0-4F62-88A8-AA263E3A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40C-135F-4BC1-A39E-4A1A482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0A0-275B-4EE7-AD2F-0B3E99E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977-148C-432F-8239-8B1C69E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D07A-7830-4DBA-9784-68DD2F2A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35A-304C-4FFC-8CA6-4F2A6BD7C70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5867280" cy="55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АХ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I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ро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др Би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улетић</a:t>
            </a:r>
            <a:br>
              <a:rPr sz="3200"/>
            </a:b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Педијатријс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лини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рагујевац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20200"/>
            <a:ext cx="77724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ОЛЕ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СТ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ЗВОЈА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БНАВЉАЊ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56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УЗР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ГЛАВНИ</a:t>
            </a:r>
            <a:r>
              <a:rPr b="0" lang="sl-SI" sz="4400" spc="-1" strike="noStrike" u="sng">
                <a:solidFill>
                  <a:srgbClr val="061c62"/>
                </a:solidFill>
                <a:uFillTx/>
                <a:latin typeface="Cooper Bold YU"/>
              </a:rPr>
              <a:t> </a:t>
            </a: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ОШ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НЕРАЛИЗАЦИЈ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   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СТЕОИДЕ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ТКИВ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04880"/>
            <a:ext cx="777240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НЕДОВОЉНО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злага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јств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рак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ра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орпциј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етаболиз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зистент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838080" y="-289080"/>
            <a:ext cx="9144000" cy="691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ЕТИОП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TO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НЕЗ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дос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мање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i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Х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ап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.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ож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бл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ра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вн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о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ц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и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6044f06"/>
          <p:cNvPicPr/>
          <p:nvPr/>
        </p:nvPicPr>
        <p:blipFill>
          <a:blip r:embed="rId1"/>
          <a:stretch/>
        </p:blipFill>
        <p:spPr>
          <a:xfrm>
            <a:off x="181080" y="2362320"/>
            <a:ext cx="7591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ЛИНИЧК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МАНИФЕСТА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КЕЛЕТ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нотабе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п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вадратум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ч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ројаниц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инатум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у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а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br>
              <a:rPr sz="3200"/>
            </a:br>
            <a:r>
              <a:rPr b="1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арфан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беркулум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5800" y="203040"/>
            <a:ext cx="9144000" cy="673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УБИ</a:t>
            </a:r>
            <a:br>
              <a:rPr sz="4400"/>
            </a:br>
            <a:br>
              <a:rPr sz="4400"/>
            </a:br>
            <a:r>
              <a:rPr b="1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сни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млечн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дентиција</a:t>
            </a:r>
            <a:br>
              <a:rPr sz="3200"/>
            </a:b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тенденц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прем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ријесу</a:t>
            </a:r>
            <a:br>
              <a:rPr sz="3200"/>
            </a:b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хиполаз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гле</a:t>
            </a:r>
            <a:r>
              <a:rPr b="1" lang="sr-RS" sz="3200" spc="-1" strike="noStrike">
                <a:solidFill>
                  <a:srgbClr val="edf0f1"/>
                </a:solidFill>
                <a:latin typeface="Cooper Bold YU"/>
              </a:rPr>
              <a:t>ђ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и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ШИЋИ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потонија 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06044F07"/>
          <p:cNvPicPr/>
          <p:nvPr/>
        </p:nvPicPr>
        <p:blipFill>
          <a:blip r:embed="rId1"/>
          <a:stretch/>
        </p:blipFill>
        <p:spPr>
          <a:xfrm>
            <a:off x="2438280" y="1066680"/>
            <a:ext cx="363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06044F09"/>
          <p:cNvPicPr/>
          <p:nvPr/>
        </p:nvPicPr>
        <p:blipFill>
          <a:blip r:embed="rId1"/>
          <a:stretch/>
        </p:blipFill>
        <p:spPr>
          <a:xfrm>
            <a:off x="1676520" y="1600200"/>
            <a:ext cx="5257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9524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НАМНЕ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ЛИНИЧК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АЛАЗ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1677960"/>
            <a:ext cx="7772400" cy="35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ИЗВОР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372680"/>
            <a:ext cx="7772400" cy="44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а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76320" y="659880"/>
            <a:ext cx="8637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RTG </a:t>
            </a:r>
            <a:endParaRPr b="0" lang="en-US" sz="48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Picture 3" descr="06044f08a"/>
          <p:cNvPicPr/>
          <p:nvPr/>
        </p:nvPicPr>
        <p:blipFill>
          <a:blip r:embed="rId1"/>
          <a:stretch/>
        </p:blipFill>
        <p:spPr>
          <a:xfrm>
            <a:off x="380880" y="2438280"/>
            <a:ext cx="149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06044F08B"/>
          <p:cNvPicPr/>
          <p:nvPr/>
        </p:nvPicPr>
        <p:blipFill>
          <a:blip r:embed="rId2"/>
          <a:stretch/>
        </p:blipFill>
        <p:spPr>
          <a:xfrm>
            <a:off x="2057400" y="2133720"/>
            <a:ext cx="168264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06044F08C"/>
          <p:cNvPicPr/>
          <p:nvPr/>
        </p:nvPicPr>
        <p:blipFill>
          <a:blip r:embed="rId3"/>
          <a:stretch/>
        </p:blipFill>
        <p:spPr>
          <a:xfrm>
            <a:off x="3962520" y="1905120"/>
            <a:ext cx="1303200" cy="449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6044F08D"/>
          <p:cNvPicPr/>
          <p:nvPr/>
        </p:nvPicPr>
        <p:blipFill>
          <a:blip r:embed="rId4"/>
          <a:stretch/>
        </p:blipFill>
        <p:spPr>
          <a:xfrm>
            <a:off x="5410080" y="2133720"/>
            <a:ext cx="1954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8082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ФЕРЕНЦИЈАЛ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дроцефал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еогенези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мперфект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орб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ндродистрофиј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енетск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нов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112860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ТЕРАП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2000-5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рек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греш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схран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ртопедс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ечење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49176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ФОСФА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АД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ОМЕ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ДЉИВ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2-3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ЉЕ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914400"/>
            <a:ext cx="7772400" cy="53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РЕВЕНЦИЈ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невно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ематуруси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2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.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3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АВИ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С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      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7 –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ЕХИ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ОЛ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Љ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орск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г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чурке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1240" y="837720"/>
            <a:ext cx="876276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ЖИВОТИЊСКО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br>
              <a:rPr sz="4800"/>
            </a:br>
            <a:br>
              <a:rPr sz="48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иб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љ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8100-30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адусМорху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жумана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50-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уман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0,3-1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в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0,3-4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т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8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р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280" y="27612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3600"/>
            </a:b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250-312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  <a:ea typeface="Times New Roman"/>
              </a:rPr>
              <a:t>µ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етр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5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ферол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г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1,25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)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2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лекалциферол</a:t>
            </a:r>
            <a:r>
              <a:rPr b="0" lang="sl-SI" sz="4400" spc="-1" strike="noStrike" baseline="-25000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96520"/>
            <a:ext cx="86868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ФУНК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ГЛАВ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ЛОГА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УЛА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МЕОСТАЗ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зи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762120" y="837720"/>
            <a:ext cx="914400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    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инте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сп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теи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ни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д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ине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в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i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л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уб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преч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иму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ш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061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ТРЕБЕ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ДОЈЧ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ОР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ВАКОДНЕВНО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НОС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5:32:55Z</dcterms:created>
  <dc:creator>No Name</dc:creator>
  <dc:description/>
  <dc:language>en-US</dc:language>
  <cp:lastModifiedBy>Natasa</cp:lastModifiedBy>
  <dcterms:modified xsi:type="dcterms:W3CDTF">2020-09-30T20:07:22Z</dcterms:modified>
  <cp:revision>15</cp:revision>
  <dc:subject/>
  <dc:title>VITAMIN D U ISHRANI ODOJČADI   Doc dr Biljana Vuletić  Pedijatrijska klinika Kragujevac</dc:title>
</cp:coreProperties>
</file>