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A18-4110-4CD2-B657-F2F81138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CA7-FED8-4057-A393-29B1D1A4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EE3-082C-42B9-A3BF-BC0B29B8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5E91-8D75-429B-A951-FEC4889C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4387-3164-4B2F-99E8-51E71E3C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B603-7BDB-40F8-BE2E-C6E5DAB5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A69E-AE23-4111-9A2D-2F4E6B4F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4B3-FDF3-4747-8BAF-5FEB0CF2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625-1C6C-4548-9A51-A98DE69E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11E-11EB-49A5-BA22-00950CCC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89E-0551-411A-8DDB-771222BC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C14-59FA-461C-BCC2-4B599459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5945-D964-463D-84FA-1AC86D86D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85840" y="2470320"/>
            <a:ext cx="869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ГЛУТЕНСКА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ЕНТЕРОПАТИЈ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ЦЕЛИЈАКИЈА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1066680" cy="1447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2669400" y="4906800"/>
            <a:ext cx="590688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Times New Roman"/>
              </a:rPr>
              <a:t>Проф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sr-RS" sz="3200" spc="-1" strike="noStrike">
                <a:solidFill>
                  <a:srgbClr val="ffffff"/>
                </a:solidFill>
                <a:latin typeface="Times New Roman"/>
              </a:rPr>
              <a:t>др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Times New Roman"/>
              </a:rPr>
              <a:t>БИЉАНА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Times New Roman"/>
              </a:rPr>
              <a:t>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01240" y="149400"/>
            <a:ext cx="919404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ПАТОЛОГ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М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X.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РОМЕ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ДУОДЕНУМ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ЈЕЈУНУМ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ЦРЕВ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ЕСИЦ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ЕДОСТАЈ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ИБЕРКИНОВ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ИПТ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УБО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ЕПИТЕЛ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ЕЛ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ЕСИЦ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АТК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ЕПИТЕЛ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Е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НК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ЕЗРЕ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ОПРИ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ЕЛИЈС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НФИЛТРАЦИЈ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РЕВЕРЗИБИЛ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biop1"/>
          <p:cNvPicPr/>
          <p:nvPr/>
        </p:nvPicPr>
        <p:blipFill>
          <a:blip r:embed="rId1"/>
          <a:srcRect l="49336" t="0" r="0" b="0"/>
          <a:stretch/>
        </p:blipFill>
        <p:spPr>
          <a:xfrm>
            <a:off x="7108920" y="533520"/>
            <a:ext cx="18828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82440" y="149400"/>
            <a:ext cx="7322040" cy="655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КЛИН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sr-CS" sz="4000" spc="-1" strike="noStrike">
                <a:solidFill>
                  <a:srgbClr val="ff0066"/>
                </a:solidFill>
                <a:latin typeface="Times New Roman"/>
              </a:rPr>
              <a:t>Ч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С</a:t>
            </a:r>
            <a:r>
              <a:rPr b="1" lang="sr-CS" sz="4000" spc="-1" strike="noStrike">
                <a:solidFill>
                  <a:srgbClr val="ff0066"/>
                </a:solidFill>
                <a:latin typeface="Times New Roman"/>
              </a:rPr>
              <a:t>ЛИ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К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ЗРАСТА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ОЛ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ЛУТ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-6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ЉА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С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ЧЕТ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ОБИЛНЕ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СТ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ЛИ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Ц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E,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КАШ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СТЕ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НУ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Ш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АВ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E,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С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С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ЛАБО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ПРЕД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ВАЊ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E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Т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Н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РБУ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ПО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ШИ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ШАЊ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В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286-01"/>
          <p:cNvPicPr/>
          <p:nvPr/>
        </p:nvPicPr>
        <p:blipFill>
          <a:blip r:embed="rId1"/>
          <a:stretch/>
        </p:blipFill>
        <p:spPr>
          <a:xfrm>
            <a:off x="6248520" y="457200"/>
            <a:ext cx="274320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25040" cy="5410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9" name="Text Box 11"/>
          <p:cNvSpPr/>
          <p:nvPr/>
        </p:nvSpPr>
        <p:spPr>
          <a:xfrm>
            <a:off x="1065960" y="387360"/>
            <a:ext cx="7886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ДЕНТАЛНЕ</a:t>
            </a:r>
            <a:r>
              <a:rPr b="1" lang="sr-Latn-C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ЛЕЗИЈЕ</a:t>
            </a:r>
            <a:r>
              <a:rPr b="1" lang="sr-Latn-C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И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НИЦИЈАЛ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ДИ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ИМПТ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ЕЛИЈАЧ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fS001650850500199Xgr1"/>
          <p:cNvPicPr/>
          <p:nvPr/>
        </p:nvPicPr>
        <p:blipFill>
          <a:blip r:embed="rId1"/>
          <a:stretch/>
        </p:blipFill>
        <p:spPr>
          <a:xfrm>
            <a:off x="3048120" y="685800"/>
            <a:ext cx="5790960" cy="5715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2362320" cy="2832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2g019"/>
          <p:cNvPicPr/>
          <p:nvPr/>
        </p:nvPicPr>
        <p:blipFill>
          <a:blip r:embed="rId3"/>
          <a:stretch/>
        </p:blipFill>
        <p:spPr>
          <a:xfrm>
            <a:off x="457200" y="4114800"/>
            <a:ext cx="2362320" cy="161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Text Box 7"/>
          <p:cNvSpPr/>
          <p:nvPr/>
        </p:nvSpPr>
        <p:spPr>
          <a:xfrm>
            <a:off x="-46800" y="228600"/>
            <a:ext cx="9337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КСТРАИНТЕСТИНАЛ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НИФЕСТА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ЕЛИЈАК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9440" y="185760"/>
            <a:ext cx="835632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ЛАБОР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Т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sr-CS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ИЈСКЕ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АН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ЛИЗ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ХИПО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Н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ЕМ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ХИПО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ЕИ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ВИШЕ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А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ЛИЈАД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г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гГ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АКТИВН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КИВ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РАНСГЛУТАМИ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З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АСТ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ТОЛИЦ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72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  5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СИЛОЗ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Е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Л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ШК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ttg-domini"/>
          <p:cNvPicPr/>
          <p:nvPr/>
        </p:nvPicPr>
        <p:blipFill>
          <a:blip r:embed="rId1"/>
          <a:stretch/>
        </p:blipFill>
        <p:spPr>
          <a:xfrm>
            <a:off x="7140600" y="4734000"/>
            <a:ext cx="1927080" cy="159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ndom"/>
          <p:cNvPicPr/>
          <p:nvPr/>
        </p:nvPicPr>
        <p:blipFill>
          <a:blip r:embed="rId2"/>
          <a:srcRect l="0" t="0" r="0" b="19981"/>
          <a:stretch/>
        </p:blipFill>
        <p:spPr>
          <a:xfrm>
            <a:off x="6705720" y="838080"/>
            <a:ext cx="220968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-379440" y="157320"/>
            <a:ext cx="10006560" cy="65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                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РИТЕРИЈУ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ЕВРОПСКОГ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УДРУЖЕЊ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ЕЧЈ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АСТРОЕНТЕРОЛОГИЈ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СХРАН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СПГ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АН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1970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ИНТЕРЛАКЕ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89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БУДИМПЕ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МНОРМАЛ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АВ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УЗНИЦ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УОДЕНУ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ЈУНУ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Т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РАН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РЖ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УТ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ЛИНИЧ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БОЉШ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ЛАЧЕ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НАКО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ЈЕ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УТЕ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ОРМАЛИЗА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УЗНИ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ЈЕ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ШТЕЋЕ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УЗНИ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ЛАП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ЛИНИЧКИ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ГОРШАЊ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ЊЕГ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 ИСХРА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АТ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УТ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-221400" y="149400"/>
            <a:ext cx="95806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МИН</a:t>
            </a:r>
            <a:r>
              <a:rPr b="1" lang="sr-CS" sz="40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МУ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M 3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ЕНТ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E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РОБИ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ПСИЈ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ДИЈАГНОСТИЧ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АВ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УЗНИЦ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ЈЕ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УТ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ОСЛ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ГОД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ОРМАЛ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УЗНИЦ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ЉШ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РОВ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КАЦИЈ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ГЛУТЕН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Ш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By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РАЈ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ЈЕ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Б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y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6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ОРМАЛ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УЗ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biop1"/>
          <p:cNvPicPr/>
          <p:nvPr/>
        </p:nvPicPr>
        <p:blipFill>
          <a:blip r:embed="rId1"/>
          <a:srcRect l="49336" t="0" r="0" b="0"/>
          <a:stretch/>
        </p:blipFill>
        <p:spPr>
          <a:xfrm>
            <a:off x="7620120" y="1666800"/>
            <a:ext cx="14475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accca"/>
          <p:cNvPicPr/>
          <p:nvPr/>
        </p:nvPicPr>
        <p:blipFill>
          <a:blip r:embed="rId1"/>
          <a:stretch/>
        </p:blipFill>
        <p:spPr>
          <a:xfrm>
            <a:off x="304920" y="1981080"/>
            <a:ext cx="3082680" cy="411480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pic>
        <p:nvPicPr>
          <p:cNvPr id="71" name="Picture 5" descr="caccca"/>
          <p:cNvPicPr/>
          <p:nvPr/>
        </p:nvPicPr>
        <p:blipFill>
          <a:blip r:embed="rId2"/>
          <a:stretch/>
        </p:blipFill>
        <p:spPr>
          <a:xfrm>
            <a:off x="4495680" y="838080"/>
            <a:ext cx="3997440" cy="533412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sp>
        <p:nvSpPr>
          <p:cNvPr id="72" name="Rectangle 6"/>
          <p:cNvSpPr/>
          <p:nvPr/>
        </p:nvSpPr>
        <p:spPr>
          <a:xfrm>
            <a:off x="723960" y="1133640"/>
            <a:ext cx="2171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T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=   1  N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922040" y="117360"/>
            <a:ext cx="458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КРИНИН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ОВ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ТО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TN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&gt;  1  NS</a:t>
            </a:r>
            <a:r>
              <a:rPr b="0" lang="it-IT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caccca"/>
          <p:cNvPicPr/>
          <p:nvPr/>
        </p:nvPicPr>
        <p:blipFill>
          <a:blip r:embed="rId1"/>
          <a:stretch/>
        </p:blipFill>
        <p:spPr>
          <a:xfrm>
            <a:off x="4232160" y="990720"/>
            <a:ext cx="3997440" cy="533376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sp>
        <p:nvSpPr>
          <p:cNvPr id="76" name="Rectangle 5"/>
          <p:cNvSpPr/>
          <p:nvPr/>
        </p:nvSpPr>
        <p:spPr>
          <a:xfrm>
            <a:off x="474480" y="981000"/>
            <a:ext cx="4507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КРИНИН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ОВ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ТО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80880" y="152280"/>
            <a:ext cx="845820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СТРОГА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ДИЈЕТА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БЕЗ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ГЛУТЕНА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ЕЛИМИНИШ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РОИЗВОД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ПШЕН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РАЖИ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ОВ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Д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РОИЗВОД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КУКУРУЗА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ПИРИНЧА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КРОМПИРА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АМ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ЕПАРА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ОЛ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ОПТИМАЛН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ТЕЖИН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6-12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МЕСЕЦИ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БОЛЕСТ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ГОРЊЕГ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ДЕЛА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Т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ЦРЕВА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ОЈ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А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ТЕРИШ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ХИСТОЛ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ШК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НОРМАЛНОС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ЛУЗНИЦ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РАЈ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НЕПОДН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ШЉИВОСТ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ГЛУТЕНА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ИЗ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ПШЕНИЧНОГ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БРАШН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75600" y="1359000"/>
            <a:ext cx="73036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</a:rPr>
              <a:t>ПРОГН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</a:rPr>
              <a:t>ДОБ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ЛАГОВ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И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ГНОС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РАВИЛНО Л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ЧИ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6095880" y="2438280"/>
            <a:ext cx="2616480" cy="4191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161720" y="380880"/>
            <a:ext cx="696168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УЧЕСТАЛО</a:t>
            </a:r>
            <a:r>
              <a:rPr b="1" lang="sr-CS" sz="4400" spc="-1" strike="noStrike">
                <a:solidFill>
                  <a:srgbClr val="ff0066"/>
                </a:solidFill>
                <a:latin typeface="Times New Roman"/>
              </a:rPr>
              <a:t>С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ГЕ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РАФСКО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УЧЈ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ТСКИ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ИНИ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ОЦ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60-80%HLA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Q2,HLA D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Q8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HLA D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ФАКТОРИ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ЕД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78480" y="297000"/>
            <a:ext cx="91998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sr-RS" sz="3600" spc="-1" strike="noStrike">
                <a:solidFill>
                  <a:srgbClr val="ff0066"/>
                </a:solidFill>
                <a:latin typeface="Times New Roman"/>
              </a:rPr>
              <a:t>ПАТОГЕН</a:t>
            </a:r>
            <a:r>
              <a:rPr b="1" lang="sl-SI" sz="3600" spc="-1" strike="noStrike">
                <a:solidFill>
                  <a:srgbClr val="ff0066"/>
                </a:solidFill>
                <a:latin typeface="Times New Roman"/>
              </a:rPr>
              <a:t>E</a:t>
            </a:r>
            <a:r>
              <a:rPr b="1" lang="sr-RS" sz="36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1" lang="sl-SI" sz="3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ЛУТЕ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ГЛ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ЈАД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JA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ИЧН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Ф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ЊЕ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РО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PAN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З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J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Н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K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П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JE T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КСИЧ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 K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K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Р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ТЕРОЦ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МУ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Ш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СТ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gA,Ig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ЦИ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Д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ЗРА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ЛИ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Т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УЖ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ЕКЦ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РУС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Ћ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ПУСТЉИ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91600" y="785880"/>
            <a:ext cx="884304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ПАТОФИЗ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IO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Л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Г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Ј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ЊЕН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КАП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ЦИТ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T A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СОРПЦИЈ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ЛИПО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ЛИЗ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ПОЈ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АЧ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ЛУ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Њ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ЦР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ЛУМЕН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ДИЈАРЕ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МАЛ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ПСОР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СТЕА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ОР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1280" y="1168560"/>
            <a:ext cx="914904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Н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М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РАСТ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РОСТАГЛ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НД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ИН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НХИ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БИР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а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ТП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з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ДЕНИ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ЊУ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П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Р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ЦИЈ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М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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УЧЕ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ЦРЕВ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У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МЕ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82800" y="371520"/>
            <a:ext cx="891036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ШТЕЋЕ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ЛУЗНИЦ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УОДЕНУ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ЈЕЈ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НУ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МАЊУ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ИНТЕЗ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ХОРМ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ЕКРЕТ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ОЛЕЦИСТОКИНИН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ОРЕМЕЋА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ОТОР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КТИВНОС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ЖЕЛУДАЧ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РЕВНО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ОРЕМЕЋА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ЕГЗОКРИ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НК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АНКРЕА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biop1"/>
          <p:cNvPicPr/>
          <p:nvPr/>
        </p:nvPicPr>
        <p:blipFill>
          <a:blip r:embed="rId1"/>
          <a:srcRect l="49336" t="0" r="0" b="0"/>
          <a:stretch/>
        </p:blipFill>
        <p:spPr>
          <a:xfrm>
            <a:off x="2743200" y="990720"/>
            <a:ext cx="26668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94160" y="700200"/>
            <a:ext cx="7428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ИЗМЕЊЕНА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ФУНКЦИЈА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КЕС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СМАЊЕНА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КОНТРАК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СМАЊЕ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КОНЦЕНТРАЦИЈА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СОЛИ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r-RS" sz="4800" spc="-1" strike="noStrike">
                <a:solidFill>
                  <a:srgbClr val="000000"/>
                </a:solidFill>
                <a:latin typeface="Times New Roman"/>
              </a:rPr>
              <a:t>СТЕАТОРЕЈ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41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6320" y="457200"/>
            <a:ext cx="898344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ЋЕН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АКТИВНОСТ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НЗИ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ОШТЕ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ИХ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ИКРО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ЕСИЦ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ЕНТЕР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ИСАХ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ИДАЗ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Е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ИДАЗЕ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ТЕЖИН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КЛИН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ЧК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СЛИК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ЗАВИС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И ОД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АШИРЕНОСТ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ОШТЕЋ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ЛУЗНИЦ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УЖ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ГОВ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НТЕНЗИТ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УОДЕНУМ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УН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8T10:20:34Z</dcterms:created>
  <dc:creator>No Name</dc:creator>
  <dc:description/>
  <dc:language>en-US</dc:language>
  <cp:lastModifiedBy>Natasa</cp:lastModifiedBy>
  <dcterms:modified xsi:type="dcterms:W3CDTF">2020-09-30T20:08:46Z</dcterms:modified>
  <cp:revision>55</cp:revision>
  <dc:subject/>
  <dc:title>PowerPoint Presentation</dc:title>
</cp:coreProperties>
</file>